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7D1-B1BE-4216-8E8E-88CC6256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5461-7C37-473D-9B01-3E97A8D8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273-D800-4E36-9A9B-D40635DD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9A5-1EB5-406F-A43D-401E1CE5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ADD-DB7C-41CA-A808-84147FA7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D93-7998-4D0B-BDE6-957A784C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A4D-E5A8-495A-838A-3B15BD9D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5D0-B1FF-4F5D-95F2-AA40CA3E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4C4-656D-46F0-BDA2-D075567B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9F8-2E72-4E7E-983F-C89DDF47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4AD-F3ED-4CC8-9E7D-26826D24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2F0-2B7B-467C-9702-67C2687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D632-29EC-4734-A85B-E3874F019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5280" cy="604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кружающий мир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тениеводство в нашем кра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640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екой древности первобытный человек занимался охотой и собирательством. Ведь для того, чтобы жить , человеку надо есть. Успех охоты и собирательства во многом зависел от капризов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однажды женщины заметили, что в том месте, где обычно на каменной терке перетирали зерна. Выросли колоски с такими же зернами. Они догадались, что это проросли случайно рассыпанные зернышки. Попробовали специально рассыпать зерно – получилось, да еще как: где упало зерно, вырос целый колос, а то и несколько. Теперь уже можно выращивать зерна рядом с домом. А не бродить в поисках по лесам и лугам. Случалось так. Что мужчины. Убив на охоте дикую свинью. Приносили домой поросят. Детенышей помещали в пригон, кормили их, растили. Так возникли земледелие и ското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и годы, совершенствовался человек, совершенствовалось земледелие, все разнообразнее становились растения, которые выращивал человек. Вырастить хороший урожай – дело не простое, для этого очень много надо знать. Знать, когда пахать землю. Когда сажать. Поливать. Что необходимо растениям для хорошего роста. Когда убирать созревшие пл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азведение  культурных сельскохозяйственных растений и их выращивание отвечает растение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337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еводство – наука о разведении культурных сельскохозяйственных растений, а  также само такое ра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Organization Chart 5"/>
          <p:cNvGrpSpPr/>
          <p:nvPr/>
        </p:nvGrpSpPr>
        <p:grpSpPr>
          <a:xfrm>
            <a:off x="395280" y="189000"/>
            <a:ext cx="8228880" cy="6262920"/>
            <a:chOff x="395280" y="189000"/>
            <a:chExt cx="8228880" cy="6262920"/>
          </a:xfrm>
        </p:grpSpPr>
        <p:cxnSp>
          <p:nvCxnSpPr>
            <p:cNvPr id="46" name="_s1028"/>
            <p:cNvCxnSpPr>
              <a:stCxn id="47" idx="3"/>
              <a:endCxn id="48" idx="2"/>
            </p:cNvCxnSpPr>
            <p:nvPr/>
          </p:nvCxnSpPr>
          <p:spPr>
            <a:xfrm flipV="1">
              <a:off x="4098240" y="1753920"/>
              <a:ext cx="411840" cy="156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 rot="16200000">
              <a:off x="4383360" y="187956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V="1">
              <a:off x="4509360" y="1753920"/>
              <a:ext cx="3240" cy="31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54" idx="0"/>
              <a:endCxn id="48" idx="2"/>
            </p:cNvCxnSpPr>
            <p:nvPr/>
          </p:nvCxnSpPr>
          <p:spPr>
            <a:xfrm flipH="1" flipV="1" rot="5400000">
              <a:off x="1503360" y="187992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2"/>
            <p:cNvSpPr/>
            <p:nvPr/>
          </p:nvSpPr>
          <p:spPr>
            <a:xfrm>
              <a:off x="3275280" y="18900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стениевод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вощ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327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лод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5"/>
            <p:cNvSpPr/>
            <p:nvPr/>
          </p:nvSpPr>
          <p:spPr>
            <a:xfrm>
              <a:off x="615564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вет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6"/>
            <p:cNvSpPr/>
            <p:nvPr/>
          </p:nvSpPr>
          <p:spPr>
            <a:xfrm>
              <a:off x="1629360" y="253764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л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еводство – это выращивание поле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ощеводство – это выращивание овощ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доводство – это выращивание плодо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водство – это выращивание цветоч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202"/>
          <p:cNvPicPr/>
          <p:nvPr/>
        </p:nvPicPr>
        <p:blipFill>
          <a:blip r:embed="rId1"/>
          <a:stretch/>
        </p:blipFill>
        <p:spPr>
          <a:xfrm>
            <a:off x="468360" y="1628640"/>
            <a:ext cx="7975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203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mg204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205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7:21:17Z</dcterms:created>
  <dc:creator>User</dc:creator>
  <dc:description/>
  <dc:language>en-US</dc:language>
  <cp:lastModifiedBy>Owner</cp:lastModifiedBy>
  <dcterms:modified xsi:type="dcterms:W3CDTF">2012-06-01T02:44:25Z</dcterms:modified>
  <cp:revision>9</cp:revision>
  <dc:subject/>
  <dc:title>4 класс Окружающий мир. Растениеводство в нашем крае.</dc:title>
</cp:coreProperties>
</file>